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ADBE-5ADC-47BB-A15D-49598E6B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1806-6762-48B7-90FB-AD56878F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96F-6737-4130-95CF-C0FA7E45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F3EE-B235-446F-8B41-2E4C58A3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805-4107-44D0-A1FF-372882B2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4C2A-944D-4032-90AD-DA6C9C49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0C03-1209-4778-9847-6DEF07B4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ECB-6587-4706-BB54-B47027B1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B5E-2440-4B38-B6C1-1CAABA68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5DA-0D9A-4179-91E4-3AF5AC27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BBD-6EBD-40EA-96F9-B18FA9A6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D4FD-B7AD-40B9-BFA9-290BFB02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e4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Berlin Sans FB Dem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E014-00C1-46BC-A90D-228992BCC058}" type="datetime">
              <a:rPr b="0" lang="en-US" sz="1200" spc="-1" strike="noStrike">
                <a:solidFill>
                  <a:srgbClr val="898989"/>
                </a:solidFill>
                <a:latin typeface="Berlin Sans FB Dem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Berlin Sans FB Dem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A949-4F8C-41EB-AF17-68CE00FFBA8B}" type="slidenum">
              <a:rPr b="0" lang="en-US" sz="1200" spc="-1" strike="noStrike">
                <a:solidFill>
                  <a:srgbClr val="898989"/>
                </a:solidFill>
                <a:latin typeface="Berlin Sans FB Dem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erlin Sans FB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underdog copy.jpg"/>
          <p:cNvPicPr/>
          <p:nvPr/>
        </p:nvPicPr>
        <p:blipFill>
          <a:blip r:embed="rId1"/>
          <a:stretch/>
        </p:blipFill>
        <p:spPr>
          <a:xfrm>
            <a:off x="3962520" y="2728800"/>
            <a:ext cx="4692600" cy="368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556272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lin Sans FB Demi"/>
              </a:rPr>
              <a:t>How to Create 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Berlin Sans FB Demi"/>
              </a:rPr>
              <a:t>Cartoon Us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Berlin Sans FB Demi"/>
              </a:rPr>
              <a:t>Go!Animate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ccunningham@vgsd.org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6320" y="1771560"/>
            <a:ext cx="9039240" cy="44769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Choose a character(s) for your scene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70" name="Straight Arrow Connector 3"/>
          <p:cNvCxnSpPr/>
          <p:nvPr/>
        </p:nvCxnSpPr>
        <p:spPr>
          <a:xfrm flipH="1" flipV="1">
            <a:off x="380520" y="2513880"/>
            <a:ext cx="1829520" cy="25153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6115320" cy="406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Click to add character motion and emo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Move the character forward or backwar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Flip the character.</a:t>
            </a: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73" name="Straight Arrow Connector 3"/>
          <p:cNvCxnSpPr/>
          <p:nvPr/>
        </p:nvCxnSpPr>
        <p:spPr>
          <a:xfrm flipH="1">
            <a:off x="6248160" y="1752480"/>
            <a:ext cx="1829520" cy="18295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7520" y="1886040"/>
            <a:ext cx="9020160" cy="4362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Choose a bubble and enter text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76" name="Straight Arrow Connector 3"/>
          <p:cNvCxnSpPr/>
          <p:nvPr/>
        </p:nvCxnSpPr>
        <p:spPr>
          <a:xfrm flipH="1" flipV="1">
            <a:off x="761400" y="2666160"/>
            <a:ext cx="610200" cy="25153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1920" y="2190600"/>
            <a:ext cx="9020160" cy="43624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Edit the text bub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Change the font, color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and alignmen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Move the handles.</a:t>
            </a:r>
            <a:endParaRPr b="0" lang="en-US" sz="32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79" name="Straight Arrow Connector 3"/>
          <p:cNvCxnSpPr/>
          <p:nvPr/>
        </p:nvCxnSpPr>
        <p:spPr>
          <a:xfrm>
            <a:off x="1371600" y="4648320"/>
            <a:ext cx="2667240" cy="9151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1920" y="1886040"/>
            <a:ext cx="9020160" cy="4438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Add objects if you choose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82" name="Straight Arrow Connector 3"/>
          <p:cNvCxnSpPr/>
          <p:nvPr/>
        </p:nvCxnSpPr>
        <p:spPr>
          <a:xfrm flipH="1" flipV="1">
            <a:off x="1676160" y="2590200"/>
            <a:ext cx="1372320" cy="25153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52560" y="1952640"/>
            <a:ext cx="9038880" cy="4524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Add music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85" name="Straight Arrow Connector 3"/>
          <p:cNvCxnSpPr/>
          <p:nvPr/>
        </p:nvCxnSpPr>
        <p:spPr>
          <a:xfrm flipH="1" flipV="1">
            <a:off x="2133360" y="2742840"/>
            <a:ext cx="915120" cy="205776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8160" y="1733400"/>
            <a:ext cx="9067680" cy="4438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Add special effects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88" name="Straight Arrow Connector 3"/>
          <p:cNvCxnSpPr/>
          <p:nvPr/>
        </p:nvCxnSpPr>
        <p:spPr>
          <a:xfrm flipH="1" flipV="1">
            <a:off x="2666520" y="2514600"/>
            <a:ext cx="610560" cy="26672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3480" y="2095560"/>
            <a:ext cx="9077040" cy="4076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Edit the timing of the special effect.  Remove special effects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91" name="Straight Arrow Connector 3"/>
          <p:cNvCxnSpPr/>
          <p:nvPr/>
        </p:nvCxnSpPr>
        <p:spPr>
          <a:xfrm>
            <a:off x="5486040" y="1371600"/>
            <a:ext cx="3048840" cy="129600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3480" y="2095560"/>
            <a:ext cx="9077040" cy="4076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Edit the timing of the text.  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94" name="Straight Arrow Connector 3"/>
          <p:cNvCxnSpPr/>
          <p:nvPr/>
        </p:nvCxnSpPr>
        <p:spPr>
          <a:xfrm>
            <a:off x="5486400" y="1371600"/>
            <a:ext cx="3124800" cy="9914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1280" y="1676520"/>
            <a:ext cx="9001440" cy="4438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Add (or remove) scenes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97" name="Straight Arrow Connector 3"/>
          <p:cNvCxnSpPr/>
          <p:nvPr/>
        </p:nvCxnSpPr>
        <p:spPr>
          <a:xfrm>
            <a:off x="5105160" y="4571640"/>
            <a:ext cx="2972520" cy="11437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underdog copy.jpg"/>
          <p:cNvPicPr/>
          <p:nvPr/>
        </p:nvPicPr>
        <p:blipFill>
          <a:blip r:embed="rId1"/>
          <a:stretch/>
        </p:blipFill>
        <p:spPr>
          <a:xfrm>
            <a:off x="3962520" y="2728800"/>
            <a:ext cx="4692600" cy="3681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Help for Students: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1219320" y="152388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erlin Sans FB Demi"/>
              </a:rPr>
              <a:t>Storyboard</a:t>
            </a:r>
            <a:endParaRPr b="0" lang="en-US" sz="3600" spc="-1" strike="noStrike">
              <a:solidFill>
                <a:srgbClr val="000000"/>
              </a:solidFill>
              <a:latin typeface="Berlin Sans FB Dem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erlin Sans FB Demi"/>
              </a:rPr>
              <a:t>Checklist</a:t>
            </a:r>
            <a:endParaRPr b="0" lang="en-US" sz="3600" spc="-1" strike="noStrike">
              <a:solidFill>
                <a:srgbClr val="000000"/>
              </a:solidFill>
              <a:latin typeface="Berlin Sans FB Dem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erlin Sans FB Demi"/>
              </a:rPr>
              <a:t>Rubric</a:t>
            </a:r>
            <a:endParaRPr b="0" lang="en-US" sz="36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228600" y="37339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erlin Sans FB Demi"/>
              </a:rPr>
              <a:t>kcworkshops.wikispaces.com</a:t>
            </a:r>
            <a:endParaRPr b="0" lang="en-US" sz="3600" spc="-1" strike="noStrike">
              <a:solidFill>
                <a:srgbClr val="000000"/>
              </a:solidFill>
              <a:latin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1280" y="1752480"/>
            <a:ext cx="9001440" cy="4438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Copy and paste graphics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100" name="Straight Arrow Connector 4"/>
          <p:cNvCxnSpPr/>
          <p:nvPr/>
        </p:nvCxnSpPr>
        <p:spPr>
          <a:xfrm flipH="1">
            <a:off x="4114080" y="457200"/>
            <a:ext cx="153000" cy="129600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2840" y="1781280"/>
            <a:ext cx="9058320" cy="4467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To import a graphic choo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Your Stuff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103" name="Straight Arrow Connector 4"/>
          <p:cNvCxnSpPr/>
          <p:nvPr/>
        </p:nvCxnSpPr>
        <p:spPr>
          <a:xfrm flipH="1">
            <a:off x="609120" y="609120"/>
            <a:ext cx="153360" cy="129636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4" name="Straight Arrow Connector 5"/>
          <p:cNvCxnSpPr/>
          <p:nvPr/>
        </p:nvCxnSpPr>
        <p:spPr>
          <a:xfrm>
            <a:off x="761040" y="609120"/>
            <a:ext cx="1600920" cy="16772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143000" y="1592280"/>
            <a:ext cx="6858000" cy="48848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Browse for the file.  Select a type and upload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533520" y="1218960"/>
            <a:ext cx="3658320" cy="29725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925040" cy="5246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Fix the position, crop, and add to Your Stuff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110" name="Straight Arrow Connector 4"/>
          <p:cNvCxnSpPr/>
          <p:nvPr/>
        </p:nvCxnSpPr>
        <p:spPr>
          <a:xfrm flipV="1">
            <a:off x="228600" y="3123360"/>
            <a:ext cx="1296000" cy="7628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1" name="Straight Arrow Connector 5"/>
          <p:cNvCxnSpPr/>
          <p:nvPr/>
        </p:nvCxnSpPr>
        <p:spPr>
          <a:xfrm>
            <a:off x="228240" y="3886200"/>
            <a:ext cx="1600920" cy="9914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2" name="Straight Arrow Connector 7"/>
          <p:cNvCxnSpPr/>
          <p:nvPr/>
        </p:nvCxnSpPr>
        <p:spPr>
          <a:xfrm>
            <a:off x="228600" y="3886200"/>
            <a:ext cx="1372320" cy="7668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1280" y="1733400"/>
            <a:ext cx="9001440" cy="4438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You can undo and redo with the Undo and Redo buttons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115" name="Straight Arrow Connector 3"/>
          <p:cNvCxnSpPr/>
          <p:nvPr/>
        </p:nvCxnSpPr>
        <p:spPr>
          <a:xfrm flipH="1">
            <a:off x="5180760" y="304560"/>
            <a:ext cx="381960" cy="144828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71280" y="1733400"/>
            <a:ext cx="9001440" cy="4438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Preview your cartoon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118" name="Straight Arrow Connector 3"/>
          <p:cNvCxnSpPr/>
          <p:nvPr/>
        </p:nvCxnSpPr>
        <p:spPr>
          <a:xfrm>
            <a:off x="7696080" y="990360"/>
            <a:ext cx="76680" cy="6865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71280" y="1733400"/>
            <a:ext cx="9001440" cy="4438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Save your cartoon.  Be sure to save it as a private cartoon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121" name="Straight Arrow Connector 3"/>
          <p:cNvCxnSpPr/>
          <p:nvPr/>
        </p:nvCxnSpPr>
        <p:spPr>
          <a:xfrm>
            <a:off x="7238520" y="914040"/>
            <a:ext cx="1220040" cy="7628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952960" cy="48006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Click on the Back to Edit button when return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to work on your cartoon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124" name="Straight Arrow Connector 3"/>
          <p:cNvCxnSpPr/>
          <p:nvPr/>
        </p:nvCxnSpPr>
        <p:spPr>
          <a:xfrm>
            <a:off x="914400" y="3124080"/>
            <a:ext cx="1372320" cy="289656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314680" cy="4552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You can delete a cartoon.  Go to My Page.  Hover your mouse over the cartoon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127" name="Straight Arrow Connector 3"/>
          <p:cNvCxnSpPr/>
          <p:nvPr/>
        </p:nvCxnSpPr>
        <p:spPr>
          <a:xfrm flipH="1" flipV="1">
            <a:off x="6628680" y="2208960"/>
            <a:ext cx="1981800" cy="21344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314680" cy="45529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To do more editing click on the Edit button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130" name="Straight Arrow Connector 3"/>
          <p:cNvCxnSpPr/>
          <p:nvPr/>
        </p:nvCxnSpPr>
        <p:spPr>
          <a:xfrm flipH="1" flipV="1">
            <a:off x="5562000" y="1980360"/>
            <a:ext cx="1981800" cy="21344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You’ll find Go!Animate a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goanimate.com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400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3505320" y="609480"/>
            <a:ext cx="5209920" cy="5686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29718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You can also do find Edit in the Options Menu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133" name="Straight Arrow Connector 3"/>
          <p:cNvCxnSpPr/>
          <p:nvPr/>
        </p:nvCxnSpPr>
        <p:spPr>
          <a:xfrm>
            <a:off x="2895480" y="3657600"/>
            <a:ext cx="4191840" cy="14486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You can e-mail your cartoon if you saved it as public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You can embed your cartoon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You can download the cartoon for $.99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When saving y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cartoon students are requir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to keep it private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609480" y="342900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Berlin Sans FB Demi"/>
              </a:rPr>
              <a:t>Inappropriate material will be removed but there may be a delay between posting and removal.</a:t>
            </a:r>
            <a:endParaRPr b="0" lang="en-US" sz="4100" spc="-1" strike="noStrike">
              <a:solidFill>
                <a:srgbClr val="000000"/>
              </a:solidFill>
              <a:latin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4810320" cy="4638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4290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Sign Up or Login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51" name="Straight Arrow Connector 4"/>
          <p:cNvCxnSpPr/>
          <p:nvPr/>
        </p:nvCxnSpPr>
        <p:spPr>
          <a:xfrm flipH="1">
            <a:off x="6171840" y="2665800"/>
            <a:ext cx="1905840" cy="175356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380880" y="3800520"/>
            <a:ext cx="48862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43640" cy="4773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Click on Create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55" name="Straight Arrow Connector 3"/>
          <p:cNvCxnSpPr/>
          <p:nvPr/>
        </p:nvCxnSpPr>
        <p:spPr>
          <a:xfrm flipH="1" flipV="1">
            <a:off x="6019560" y="1828440"/>
            <a:ext cx="2286720" cy="175320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33520" y="426960"/>
            <a:ext cx="3581280" cy="5821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23920" y="1447560"/>
            <a:ext cx="3962520" cy="41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Choose Animation Studio for your first use of Go!Animate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58" name="Straight Arrow Connector 3"/>
          <p:cNvCxnSpPr/>
          <p:nvPr/>
        </p:nvCxnSpPr>
        <p:spPr>
          <a:xfrm flipH="1" flipV="1">
            <a:off x="2056680" y="3199680"/>
            <a:ext cx="2515320" cy="21344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915160" cy="4838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Choose your cast.</a:t>
            </a:r>
            <a:endParaRPr b="0" lang="en-US" sz="44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61" name="Straight Arrow Connector 3"/>
          <p:cNvCxnSpPr/>
          <p:nvPr/>
        </p:nvCxnSpPr>
        <p:spPr>
          <a:xfrm flipH="1">
            <a:off x="3961800" y="3657600"/>
            <a:ext cx="3886920" cy="190584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3760" y="1657440"/>
            <a:ext cx="9096480" cy="4591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Choose a theme for your cartoon.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64" name="Straight Arrow Connector 3"/>
          <p:cNvCxnSpPr/>
          <p:nvPr/>
        </p:nvCxnSpPr>
        <p:spPr>
          <a:xfrm flipH="1" flipV="1">
            <a:off x="1752120" y="1980360"/>
            <a:ext cx="915120" cy="29725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400" y="2066760"/>
            <a:ext cx="9048600" cy="4029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Choose a background and choose</a:t>
            </a:r>
            <a:endParaRPr b="0" lang="en-US" sz="4000" spc="-1" strike="noStrike">
              <a:solidFill>
                <a:srgbClr val="000000"/>
              </a:solidFill>
              <a:latin typeface="Berlin Sans FB Demi"/>
            </a:endParaRPr>
          </a:p>
        </p:txBody>
      </p:sp>
      <p:cxnSp>
        <p:nvCxnSpPr>
          <p:cNvPr id="67" name="Straight Arrow Connector 3"/>
          <p:cNvCxnSpPr/>
          <p:nvPr/>
        </p:nvCxnSpPr>
        <p:spPr>
          <a:xfrm flipH="1">
            <a:off x="1371240" y="1447920"/>
            <a:ext cx="2363040" cy="83880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5:11:54Z</dcterms:created>
  <dc:creator>ccunningham</dc:creator>
  <dc:description/>
  <dc:language>en-US</dc:language>
  <cp:lastModifiedBy>ccunningham</cp:lastModifiedBy>
  <dcterms:modified xsi:type="dcterms:W3CDTF">2010-03-01T13:10:20Z</dcterms:modified>
  <cp:revision>29</cp:revision>
  <dc:subject/>
  <dc:title>Photo Alb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oReflect">
    <vt:bool>0</vt:bool>
  </property>
  <property fmtid="{D5CDD505-2E9C-101B-9397-08002B2CF9AE}" pid="3" name="KeepGraph">
    <vt:bool>0</vt:bool>
  </property>
  <property fmtid="{D5CDD505-2E9C-101B-9397-08002B2CF9AE}" pid="4" name="ShowPercent">
    <vt:bool>1</vt:bool>
  </property>
  <property fmtid="{D5CDD505-2E9C-101B-9397-08002B2CF9AE}" pid="5" name="ShowTimer">
    <vt:bool>1</vt:bool>
  </property>
</Properties>
</file>